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00" y="34920"/>
            <a:ext cx="9093240" cy="6505560"/>
          </a:xfrm>
          <a:prstGeom prst="flowChartAlternateProcess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021280" y="6316560"/>
            <a:ext cx="4138560" cy="471240"/>
            <a:chOff x="5021280" y="6316560"/>
            <a:chExt cx="4138560" cy="471240"/>
          </a:xfrm>
        </p:grpSpPr>
        <p:sp>
          <p:nvSpPr>
            <p:cNvPr id="2" name=""/>
            <p:cNvSpPr/>
            <p:nvPr/>
          </p:nvSpPr>
          <p:spPr>
            <a:xfrm>
              <a:off x="5232240" y="6316560"/>
              <a:ext cx="3816360" cy="444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021280" y="6329520"/>
              <a:ext cx="413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Søren Bisgaard &amp; Assoc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343040" y="658332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0200" y="26028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3840" y="1211400"/>
            <a:ext cx="8297640" cy="4978080"/>
            <a:chOff x="393840" y="1211400"/>
            <a:chExt cx="8297640" cy="4978080"/>
          </a:xfrm>
        </p:grpSpPr>
        <p:sp>
          <p:nvSpPr>
            <p:cNvPr id="45" name=""/>
            <p:cNvSpPr/>
            <p:nvPr/>
          </p:nvSpPr>
          <p:spPr>
            <a:xfrm>
              <a:off x="6409080" y="26006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1880" y="32720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048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480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1880" y="50976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23240" y="53895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904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366920" y="1803600"/>
              <a:ext cx="923760" cy="3357360"/>
              <a:chOff x="1366920" y="1803600"/>
              <a:chExt cx="923760" cy="3357360"/>
            </a:xfrm>
          </p:grpSpPr>
          <p:sp>
            <p:nvSpPr>
              <p:cNvPr id="53" name=""/>
              <p:cNvSpPr/>
              <p:nvPr/>
            </p:nvSpPr>
            <p:spPr>
              <a:xfrm>
                <a:off x="1376280" y="1803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366920" y="1810080"/>
                <a:ext cx="923760" cy="3350880"/>
                <a:chOff x="1366920" y="1810080"/>
                <a:chExt cx="923760" cy="33508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290680" y="18100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833480" y="18100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1662120" y="38772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2004840" y="38772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1620720" y="4581000"/>
                  <a:ext cx="261360" cy="579960"/>
                  <a:chOff x="1620720" y="4581000"/>
                  <a:chExt cx="261360" cy="5799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flipV="1">
                    <a:off x="1838160" y="48945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1838160" y="46908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6200000">
                    <a:off x="1461240" y="47401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" name=""/>
                <p:cNvSpPr/>
                <p:nvPr/>
              </p:nvSpPr>
              <p:spPr>
                <a:xfrm>
                  <a:off x="1415520" y="32821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6200000">
                  <a:off x="1210680" y="22338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" name=""/>
            <p:cNvGrpSpPr/>
            <p:nvPr/>
          </p:nvGrpSpPr>
          <p:grpSpPr>
            <a:xfrm>
              <a:off x="393840" y="1444320"/>
              <a:ext cx="982440" cy="3718440"/>
              <a:chOff x="393840" y="1444320"/>
              <a:chExt cx="982440" cy="371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376280" y="14446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9080" y="14446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4772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09044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1880" y="38815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6200000">
                <a:off x="-231480" y="2102760"/>
                <a:ext cx="1771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461880" y="14443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1880" y="14446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8360" y="32878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706320" y="4582800"/>
                <a:ext cx="261360" cy="579960"/>
                <a:chOff x="706320" y="4582800"/>
                <a:chExt cx="261360" cy="579960"/>
              </a:xfrm>
            </p:grpSpPr>
            <p:sp>
              <p:nvSpPr>
                <p:cNvPr id="76" name=""/>
                <p:cNvSpPr/>
                <p:nvPr/>
              </p:nvSpPr>
              <p:spPr>
                <a:xfrm flipV="1">
                  <a:off x="923760" y="48960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923760" y="46929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6200000">
                  <a:off x="546840" y="47419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6433200" y="539604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733560" y="1211400"/>
              <a:ext cx="1686240" cy="4978080"/>
              <a:chOff x="3733560" y="1211400"/>
              <a:chExt cx="1686240" cy="4978080"/>
            </a:xfrm>
          </p:grpSpPr>
          <p:sp>
            <p:nvSpPr>
              <p:cNvPr id="81" name=""/>
              <p:cNvSpPr/>
              <p:nvPr/>
            </p:nvSpPr>
            <p:spPr>
              <a:xfrm>
                <a:off x="4082400" y="5222880"/>
                <a:ext cx="991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nde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n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3733560" y="1211400"/>
                <a:ext cx="1686240" cy="4978080"/>
                <a:chOff x="3733560" y="1211400"/>
                <a:chExt cx="1686240" cy="497808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3733560" y="1211400"/>
                  <a:ext cx="385920" cy="4978080"/>
                  <a:chOff x="3733560" y="1211400"/>
                  <a:chExt cx="385920" cy="497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V="1">
                    <a:off x="4119480" y="1211400"/>
                    <a:ext cx="0" cy="497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>
                    <a:off x="3733560" y="6189480"/>
                    <a:ext cx="38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3733560" y="1211400"/>
                    <a:ext cx="38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5033880" y="1211400"/>
                  <a:ext cx="385920" cy="4978080"/>
                  <a:chOff x="5033880" y="1211400"/>
                  <a:chExt cx="385920" cy="497808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V="1">
                    <a:off x="5033880" y="1211400"/>
                    <a:ext cx="0" cy="497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5034240" y="6189480"/>
                    <a:ext cx="38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034240" y="1211400"/>
                    <a:ext cx="38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" name=""/>
            <p:cNvGrpSpPr/>
            <p:nvPr/>
          </p:nvGrpSpPr>
          <p:grpSpPr>
            <a:xfrm>
              <a:off x="3162240" y="2187720"/>
              <a:ext cx="2786040" cy="2981520"/>
              <a:chOff x="3162240" y="2187720"/>
              <a:chExt cx="2786040" cy="2981520"/>
            </a:xfrm>
          </p:grpSpPr>
          <p:sp>
            <p:nvSpPr>
              <p:cNvPr id="92" name=""/>
              <p:cNvSpPr/>
              <p:nvPr/>
            </p:nvSpPr>
            <p:spPr>
              <a:xfrm>
                <a:off x="4119480" y="2194200"/>
                <a:ext cx="0" cy="29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33880" y="2365560"/>
                <a:ext cx="0" cy="27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576680" y="2365560"/>
                <a:ext cx="0" cy="9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62280" y="2187720"/>
                <a:ext cx="0" cy="109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49092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83364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440532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474804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31972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662440" y="388800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33640" y="3888000"/>
                <a:ext cx="57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48040" y="3888000"/>
                <a:ext cx="57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05080" y="2187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91080" y="2541960"/>
                <a:ext cx="0" cy="73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33880" y="2541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19480" y="2365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006000" y="2476800"/>
                <a:ext cx="83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6200000">
                <a:off x="3982320" y="25822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940640" y="268920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82480" y="329436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96880" y="329436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11280" y="329436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3454560" y="4589280"/>
                <a:ext cx="261360" cy="579960"/>
                <a:chOff x="3454560" y="4589280"/>
                <a:chExt cx="261360" cy="57996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3671640" y="490248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3671640" y="469944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6200000">
                  <a:off x="3295080" y="474840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63920" y="4589280"/>
                <a:ext cx="261360" cy="579960"/>
                <a:chOff x="4363920" y="4589280"/>
                <a:chExt cx="261360" cy="57996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4581360" y="490248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4581360" y="469944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6200000">
                  <a:off x="4204440" y="474840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8320" y="4589280"/>
                <a:ext cx="261360" cy="579960"/>
                <a:chOff x="5278320" y="4589280"/>
                <a:chExt cx="261360" cy="57996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5495760" y="490248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5495760" y="469944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6200000">
                  <a:off x="5118840" y="474840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48280" y="2541600"/>
              <a:ext cx="0" cy="25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12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818040" y="2903760"/>
              <a:ext cx="959040" cy="2259000"/>
              <a:chOff x="6818040" y="2903760"/>
              <a:chExt cx="959040" cy="2259000"/>
            </a:xfrm>
          </p:grpSpPr>
          <p:sp>
            <p:nvSpPr>
              <p:cNvPr id="129" name=""/>
              <p:cNvSpPr/>
              <p:nvPr/>
            </p:nvSpPr>
            <p:spPr>
              <a:xfrm>
                <a:off x="7319880" y="29037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14852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777080" y="29037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62680" y="2903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49124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18040" y="29307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68520" y="32878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7107120" y="4582800"/>
                <a:ext cx="261360" cy="579960"/>
                <a:chOff x="7107120" y="4582800"/>
                <a:chExt cx="261360" cy="579960"/>
              </a:xfrm>
            </p:grpSpPr>
            <p:sp>
              <p:nvSpPr>
                <p:cNvPr id="137" name=""/>
                <p:cNvSpPr/>
                <p:nvPr/>
              </p:nvSpPr>
              <p:spPr>
                <a:xfrm flipV="1">
                  <a:off x="7324560" y="48960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7324560" y="46929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6200000">
                  <a:off x="6947640" y="47419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7777080" y="3271680"/>
              <a:ext cx="914400" cy="1891080"/>
              <a:chOff x="7777080" y="3271680"/>
              <a:chExt cx="914400" cy="1891080"/>
            </a:xfrm>
          </p:grpSpPr>
          <p:sp>
            <p:nvSpPr>
              <p:cNvPr id="141" name=""/>
              <p:cNvSpPr/>
              <p:nvPr/>
            </p:nvSpPr>
            <p:spPr>
              <a:xfrm>
                <a:off x="7777080" y="32720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40564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05640" y="38815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8691480" y="32716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062920" y="38815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9680" y="32878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8012160" y="4582800"/>
                <a:ext cx="261360" cy="579960"/>
                <a:chOff x="8012160" y="4582800"/>
                <a:chExt cx="261360" cy="57996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8229600" y="48960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8229600" y="46929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6200000">
                  <a:off x="7852680" y="47419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5903640" y="2808360"/>
              <a:ext cx="959040" cy="2351160"/>
              <a:chOff x="5903640" y="2808360"/>
              <a:chExt cx="959040" cy="2351160"/>
            </a:xfrm>
          </p:grpSpPr>
          <p:sp>
            <p:nvSpPr>
              <p:cNvPr id="152" name=""/>
              <p:cNvSpPr/>
              <p:nvPr/>
            </p:nvSpPr>
            <p:spPr>
              <a:xfrm>
                <a:off x="6405480" y="28083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234120" y="38847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862680" y="28083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48280" y="2808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576840" y="38847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03640" y="28371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54120" y="32846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191280" y="4579560"/>
                <a:ext cx="261360" cy="579960"/>
                <a:chOff x="6191280" y="4579560"/>
                <a:chExt cx="261360" cy="57996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6410160" y="488448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6410160" y="467280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6200000">
                  <a:off x="6031800" y="473868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2281320" y="1898640"/>
              <a:ext cx="923760" cy="3261600"/>
              <a:chOff x="2281320" y="1898640"/>
              <a:chExt cx="923760" cy="32616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90680" y="18986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05080" y="19051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47880" y="19051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576520" y="38815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919240" y="38959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535120" y="4580280"/>
                <a:ext cx="261360" cy="579960"/>
                <a:chOff x="2535120" y="4580280"/>
                <a:chExt cx="261360" cy="57996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2752560" y="490284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752560" y="470520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6200000">
                  <a:off x="2375640" y="473940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2368080" y="32832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6200000">
                <a:off x="2125080" y="2307600"/>
                <a:ext cx="83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5768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62440" y="3881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4280" y="3881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0680" y="2052720"/>
              <a:ext cx="895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22680" y="19908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8000" y="2662200"/>
              <a:ext cx="895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0" y="266724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266724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185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192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205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0.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0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9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0.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0.1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4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268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7777080" y="3431880"/>
              <a:ext cx="914400" cy="1889640"/>
              <a:chOff x="7777080" y="3431880"/>
              <a:chExt cx="914400" cy="1889640"/>
            </a:xfrm>
          </p:grpSpPr>
          <p:sp>
            <p:nvSpPr>
              <p:cNvPr id="283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8012160" y="4250520"/>
                <a:ext cx="261360" cy="1071000"/>
                <a:chOff x="8012160" y="4250520"/>
                <a:chExt cx="261360" cy="107100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6200000">
                  <a:off x="7607160" y="465516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0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5903640" y="2968560"/>
              <a:ext cx="959040" cy="2349720"/>
              <a:chOff x="5903640" y="2968560"/>
              <a:chExt cx="959040" cy="2349720"/>
            </a:xfrm>
          </p:grpSpPr>
          <p:sp>
            <p:nvSpPr>
              <p:cNvPr id="294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6189840" y="4317480"/>
                <a:ext cx="261360" cy="1000800"/>
                <a:chOff x="6189840" y="4317480"/>
                <a:chExt cx="261360" cy="1000800"/>
              </a:xfrm>
            </p:grpSpPr>
            <p:sp>
              <p:nvSpPr>
                <p:cNvPr id="302" name=""/>
                <p:cNvSpPr/>
                <p:nvPr/>
              </p:nvSpPr>
              <p:spPr>
                <a:xfrm flipV="1">
                  <a:off x="6410160" y="50443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410160" y="483228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6200000">
                  <a:off x="5820120" y="46872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75.1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2281320" y="2058840"/>
              <a:ext cx="947160" cy="3261240"/>
              <a:chOff x="2281320" y="2058840"/>
              <a:chExt cx="947160" cy="3261240"/>
            </a:xfrm>
          </p:grpSpPr>
          <p:sp>
            <p:nvSpPr>
              <p:cNvPr id="306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33680" y="4319280"/>
                <a:ext cx="261360" cy="1000800"/>
                <a:chOff x="2533680" y="4319280"/>
                <a:chExt cx="261360" cy="100080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2752560" y="506340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2752560" y="486576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200000">
                  <a:off x="2163960" y="46890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25.1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200000">
                <a:off x="2219400" y="2251800"/>
                <a:ext cx="1070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.1.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322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342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2.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352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2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361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362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2.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3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2.1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405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408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416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7777080" y="3431880"/>
              <a:ext cx="914400" cy="1889640"/>
              <a:chOff x="7777080" y="3431880"/>
              <a:chExt cx="914400" cy="1889640"/>
            </a:xfrm>
          </p:grpSpPr>
          <p:sp>
            <p:nvSpPr>
              <p:cNvPr id="420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8012160" y="4250520"/>
                <a:ext cx="261360" cy="1071000"/>
                <a:chOff x="8012160" y="4250520"/>
                <a:chExt cx="261360" cy="1071000"/>
              </a:xfrm>
            </p:grpSpPr>
            <p:sp>
              <p:nvSpPr>
                <p:cNvPr id="427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6200000">
                  <a:off x="7607160" y="465516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2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5903640" y="2968560"/>
              <a:ext cx="959040" cy="2349720"/>
              <a:chOff x="5903640" y="2968560"/>
              <a:chExt cx="959040" cy="2349720"/>
            </a:xfrm>
          </p:grpSpPr>
          <p:sp>
            <p:nvSpPr>
              <p:cNvPr id="431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6189840" y="4317480"/>
                <a:ext cx="261360" cy="1000800"/>
                <a:chOff x="6189840" y="4317480"/>
                <a:chExt cx="261360" cy="1000800"/>
              </a:xfrm>
            </p:grpSpPr>
            <p:sp>
              <p:nvSpPr>
                <p:cNvPr id="439" name=""/>
                <p:cNvSpPr/>
                <p:nvPr/>
              </p:nvSpPr>
              <p:spPr>
                <a:xfrm flipV="1">
                  <a:off x="6410160" y="50443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6410160" y="483228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200000">
                  <a:off x="5820120" y="46872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75.3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2281320" y="2058840"/>
              <a:ext cx="947160" cy="3261240"/>
              <a:chOff x="2281320" y="2058840"/>
              <a:chExt cx="947160" cy="3261240"/>
            </a:xfrm>
          </p:grpSpPr>
          <p:sp>
            <p:nvSpPr>
              <p:cNvPr id="443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2533680" y="4319280"/>
                <a:ext cx="261360" cy="1000800"/>
                <a:chOff x="2533680" y="4319280"/>
                <a:chExt cx="261360" cy="1000800"/>
              </a:xfrm>
            </p:grpSpPr>
            <p:sp>
              <p:nvSpPr>
                <p:cNvPr id="449" name=""/>
                <p:cNvSpPr/>
                <p:nvPr/>
              </p:nvSpPr>
              <p:spPr>
                <a:xfrm flipV="1">
                  <a:off x="2752560" y="506340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2752560" y="486576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200000">
                  <a:off x="2163960" y="46890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25.3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6200000">
                <a:off x="2219400" y="2251800"/>
                <a:ext cx="1070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.3.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459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466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479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4.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489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4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498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3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7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4.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4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4.1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542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545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553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7777080" y="3431880"/>
              <a:ext cx="914400" cy="1886400"/>
              <a:chOff x="7777080" y="3431880"/>
              <a:chExt cx="914400" cy="1886400"/>
            </a:xfrm>
          </p:grpSpPr>
          <p:sp>
            <p:nvSpPr>
              <p:cNvPr id="557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8012160" y="4247280"/>
                <a:ext cx="261360" cy="1071000"/>
                <a:chOff x="8012160" y="4247280"/>
                <a:chExt cx="261360" cy="1071000"/>
              </a:xfrm>
            </p:grpSpPr>
            <p:sp>
              <p:nvSpPr>
                <p:cNvPr id="564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6200000">
                  <a:off x="7607160" y="465192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4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5903640" y="2968560"/>
              <a:ext cx="959040" cy="2347560"/>
              <a:chOff x="5903640" y="2968560"/>
              <a:chExt cx="959040" cy="2347560"/>
            </a:xfrm>
          </p:grpSpPr>
          <p:sp>
            <p:nvSpPr>
              <p:cNvPr id="568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6188040" y="4665960"/>
                <a:ext cx="261360" cy="650160"/>
                <a:chOff x="6188040" y="4665960"/>
                <a:chExt cx="261360" cy="650160"/>
              </a:xfrm>
            </p:grpSpPr>
            <p:sp>
              <p:nvSpPr>
                <p:cNvPr id="576" name=""/>
                <p:cNvSpPr/>
                <p:nvPr/>
              </p:nvSpPr>
              <p:spPr>
                <a:xfrm flipV="1">
                  <a:off x="6410160" y="504396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6410160" y="48319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6200000">
                  <a:off x="5993640" y="4860360"/>
                  <a:ext cx="6501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2279520" y="2058840"/>
              <a:ext cx="925560" cy="3258360"/>
              <a:chOff x="2279520" y="2058840"/>
              <a:chExt cx="925560" cy="3258360"/>
            </a:xfrm>
          </p:grpSpPr>
          <p:sp>
            <p:nvSpPr>
              <p:cNvPr id="580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532240" y="4667040"/>
                <a:ext cx="261360" cy="650160"/>
                <a:chOff x="2532240" y="4667040"/>
                <a:chExt cx="261360" cy="650160"/>
              </a:xfrm>
            </p:grpSpPr>
            <p:sp>
              <p:nvSpPr>
                <p:cNvPr id="586" name=""/>
                <p:cNvSpPr/>
                <p:nvPr/>
              </p:nvSpPr>
              <p:spPr>
                <a:xfrm flipV="1">
                  <a:off x="2752560" y="506304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2752560" y="486576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16200000">
                  <a:off x="2337840" y="4861440"/>
                  <a:ext cx="6501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200000">
                <a:off x="2123280" y="2464560"/>
                <a:ext cx="83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596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603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5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616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0.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626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0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635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636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4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0.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7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1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0.2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5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679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682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690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"/>
            <p:cNvGrpSpPr/>
            <p:nvPr/>
          </p:nvGrpSpPr>
          <p:grpSpPr>
            <a:xfrm>
              <a:off x="7777080" y="3431880"/>
              <a:ext cx="914400" cy="1889640"/>
              <a:chOff x="7777080" y="3431880"/>
              <a:chExt cx="914400" cy="1889640"/>
            </a:xfrm>
          </p:grpSpPr>
          <p:sp>
            <p:nvSpPr>
              <p:cNvPr id="694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8012160" y="4250520"/>
                <a:ext cx="261360" cy="1071000"/>
                <a:chOff x="8012160" y="4250520"/>
                <a:chExt cx="261360" cy="1071000"/>
              </a:xfrm>
            </p:grpSpPr>
            <p:sp>
              <p:nvSpPr>
                <p:cNvPr id="701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rot="16200000">
                  <a:off x="7607160" y="465516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0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4" name=""/>
            <p:cNvGrpSpPr/>
            <p:nvPr/>
          </p:nvGrpSpPr>
          <p:grpSpPr>
            <a:xfrm>
              <a:off x="5903640" y="2968560"/>
              <a:ext cx="959040" cy="2349720"/>
              <a:chOff x="5903640" y="2968560"/>
              <a:chExt cx="959040" cy="2349720"/>
            </a:xfrm>
          </p:grpSpPr>
          <p:sp>
            <p:nvSpPr>
              <p:cNvPr id="705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6189840" y="4317480"/>
                <a:ext cx="261360" cy="1000800"/>
                <a:chOff x="6189840" y="4317480"/>
                <a:chExt cx="261360" cy="1000800"/>
              </a:xfrm>
            </p:grpSpPr>
            <p:sp>
              <p:nvSpPr>
                <p:cNvPr id="713" name=""/>
                <p:cNvSpPr/>
                <p:nvPr/>
              </p:nvSpPr>
              <p:spPr>
                <a:xfrm flipV="1">
                  <a:off x="6410160" y="50443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6410160" y="483228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16200000">
                  <a:off x="5820120" y="46872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75.1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6" name=""/>
            <p:cNvGrpSpPr/>
            <p:nvPr/>
          </p:nvGrpSpPr>
          <p:grpSpPr>
            <a:xfrm>
              <a:off x="2281320" y="2058840"/>
              <a:ext cx="947160" cy="3261240"/>
              <a:chOff x="2281320" y="2058840"/>
              <a:chExt cx="947160" cy="3261240"/>
            </a:xfrm>
          </p:grpSpPr>
          <p:sp>
            <p:nvSpPr>
              <p:cNvPr id="717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2533680" y="4319280"/>
                <a:ext cx="261360" cy="1000800"/>
                <a:chOff x="2533680" y="4319280"/>
                <a:chExt cx="261360" cy="1000800"/>
              </a:xfrm>
            </p:grpSpPr>
            <p:sp>
              <p:nvSpPr>
                <p:cNvPr id="723" name=""/>
                <p:cNvSpPr/>
                <p:nvPr/>
              </p:nvSpPr>
              <p:spPr>
                <a:xfrm flipV="1">
                  <a:off x="2752560" y="506340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2752560" y="486576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2163960" y="46890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25.1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6200000">
                <a:off x="2219400" y="2251800"/>
                <a:ext cx="1070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.1.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733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740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0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2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753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2.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763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2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6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9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77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2.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4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8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2.2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2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816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819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827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7777080" y="3431880"/>
              <a:ext cx="914400" cy="1889640"/>
              <a:chOff x="7777080" y="3431880"/>
              <a:chExt cx="914400" cy="1889640"/>
            </a:xfrm>
          </p:grpSpPr>
          <p:sp>
            <p:nvSpPr>
              <p:cNvPr id="831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8012160" y="4250520"/>
                <a:ext cx="261360" cy="1071000"/>
                <a:chOff x="8012160" y="4250520"/>
                <a:chExt cx="261360" cy="1071000"/>
              </a:xfrm>
            </p:grpSpPr>
            <p:sp>
              <p:nvSpPr>
                <p:cNvPr id="838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6200000">
                  <a:off x="7607160" y="465516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2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1" name=""/>
            <p:cNvGrpSpPr/>
            <p:nvPr/>
          </p:nvGrpSpPr>
          <p:grpSpPr>
            <a:xfrm>
              <a:off x="5903640" y="2968560"/>
              <a:ext cx="959040" cy="2349720"/>
              <a:chOff x="5903640" y="2968560"/>
              <a:chExt cx="959040" cy="2349720"/>
            </a:xfrm>
          </p:grpSpPr>
          <p:sp>
            <p:nvSpPr>
              <p:cNvPr id="842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189840" y="4317480"/>
                <a:ext cx="261360" cy="1000800"/>
                <a:chOff x="6189840" y="4317480"/>
                <a:chExt cx="261360" cy="10008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6410160" y="50443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6410160" y="483228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6200000">
                  <a:off x="5820120" y="46872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75.3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"/>
            <p:cNvGrpSpPr/>
            <p:nvPr/>
          </p:nvGrpSpPr>
          <p:grpSpPr>
            <a:xfrm>
              <a:off x="2281320" y="2058840"/>
              <a:ext cx="947160" cy="3261240"/>
              <a:chOff x="2281320" y="2058840"/>
              <a:chExt cx="947160" cy="3261240"/>
            </a:xfrm>
          </p:grpSpPr>
          <p:sp>
            <p:nvSpPr>
              <p:cNvPr id="854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2533680" y="4319280"/>
                <a:ext cx="261360" cy="1000800"/>
                <a:chOff x="2533680" y="4319280"/>
                <a:chExt cx="261360" cy="1000800"/>
              </a:xfrm>
            </p:grpSpPr>
            <p:sp>
              <p:nvSpPr>
                <p:cNvPr id="860" name=""/>
                <p:cNvSpPr/>
                <p:nvPr/>
              </p:nvSpPr>
              <p:spPr>
                <a:xfrm flipV="1">
                  <a:off x="2752560" y="506340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2752560" y="4865760"/>
                  <a:ext cx="0" cy="9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6200000">
                  <a:off x="2163960" y="4689000"/>
                  <a:ext cx="1000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25.3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19400" y="2251800"/>
                <a:ext cx="1070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.3.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340200" y="318960"/>
            <a:ext cx="8494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Exercise:  Defective Paper Helicopt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95280" y="1371600"/>
            <a:ext cx="8296200" cy="4978080"/>
            <a:chOff x="395280" y="1371600"/>
            <a:chExt cx="8296200" cy="4978080"/>
          </a:xfrm>
        </p:grpSpPr>
        <p:sp>
          <p:nvSpPr>
            <p:cNvPr id="870" name=""/>
            <p:cNvSpPr/>
            <p:nvPr/>
          </p:nvSpPr>
          <p:spPr>
            <a:xfrm>
              <a:off x="461880" y="343224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04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480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8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0040" y="554976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90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1366920" y="1963800"/>
              <a:ext cx="923760" cy="3357360"/>
              <a:chOff x="1366920" y="1963800"/>
              <a:chExt cx="923760" cy="3357360"/>
            </a:xfrm>
          </p:grpSpPr>
          <p:sp>
            <p:nvSpPr>
              <p:cNvPr id="877" name=""/>
              <p:cNvSpPr/>
              <p:nvPr/>
            </p:nvSpPr>
            <p:spPr>
              <a:xfrm>
                <a:off x="1376280" y="1963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1366920" y="1970280"/>
                <a:ext cx="923760" cy="3350880"/>
                <a:chOff x="1366920" y="1970280"/>
                <a:chExt cx="923760" cy="335088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290680" y="1970280"/>
                  <a:ext cx="0" cy="328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833480" y="1970280"/>
                  <a:ext cx="0" cy="145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166212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2004840" y="4037400"/>
                  <a:ext cx="0" cy="121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620720" y="4741200"/>
                  <a:ext cx="261360" cy="579960"/>
                  <a:chOff x="1620720" y="4741200"/>
                  <a:chExt cx="261360" cy="57996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flipV="1">
                    <a:off x="1838160" y="505476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1838160" y="4851000"/>
                    <a:ext cx="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16200000">
                    <a:off x="1461240" y="4900320"/>
                    <a:ext cx="57996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pl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1415520" y="3442320"/>
                  <a:ext cx="7614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ng lo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210680" y="2394000"/>
                  <a:ext cx="83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"/>
            <p:cNvGrpSpPr/>
            <p:nvPr/>
          </p:nvGrpSpPr>
          <p:grpSpPr>
            <a:xfrm>
              <a:off x="395280" y="1604520"/>
              <a:ext cx="981000" cy="3716640"/>
              <a:chOff x="395280" y="1604520"/>
              <a:chExt cx="981000" cy="3716640"/>
            </a:xfrm>
          </p:grpSpPr>
          <p:sp>
            <p:nvSpPr>
              <p:cNvPr id="890" name=""/>
              <p:cNvSpPr/>
              <p:nvPr/>
            </p:nvSpPr>
            <p:spPr>
              <a:xfrm>
                <a:off x="1376280" y="160488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19080" y="1604880"/>
                <a:ext cx="0" cy="18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477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10904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6188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6200000">
                <a:off x="-16920" y="2048040"/>
                <a:ext cx="177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ood (0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4.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461880" y="1604520"/>
                <a:ext cx="0" cy="365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1880" y="16048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836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706320" y="4390560"/>
                <a:ext cx="261360" cy="930600"/>
                <a:chOff x="706320" y="4390560"/>
                <a:chExt cx="261360" cy="930600"/>
              </a:xfrm>
            </p:grpSpPr>
            <p:sp>
              <p:nvSpPr>
                <p:cNvPr id="900" name=""/>
                <p:cNvSpPr/>
                <p:nvPr/>
              </p:nvSpPr>
              <p:spPr>
                <a:xfrm flipV="1">
                  <a:off x="9237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9237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16200000">
                  <a:off x="371520" y="4725000"/>
                  <a:ext cx="930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0.4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3" name=""/>
            <p:cNvGrpSpPr/>
            <p:nvPr/>
          </p:nvGrpSpPr>
          <p:grpSpPr>
            <a:xfrm>
              <a:off x="2819160" y="1371600"/>
              <a:ext cx="3129120" cy="4978080"/>
              <a:chOff x="2819160" y="1371600"/>
              <a:chExt cx="3129120" cy="497808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2819160" y="1371600"/>
                <a:ext cx="3129120" cy="4978080"/>
                <a:chOff x="2819160" y="1371600"/>
                <a:chExt cx="3129120" cy="49780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168000" y="5383440"/>
                  <a:ext cx="991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nd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ine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2819160" y="1371600"/>
                  <a:ext cx="3129120" cy="4978080"/>
                  <a:chOff x="2819160" y="1371600"/>
                  <a:chExt cx="3129120" cy="497808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4852080" y="5556240"/>
                    <a:ext cx="752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2819160" y="1371600"/>
                    <a:ext cx="3129120" cy="4978080"/>
                    <a:chOff x="2819160" y="1371600"/>
                    <a:chExt cx="3129120" cy="4978080"/>
                  </a:xfrm>
                </p:grpSpPr>
                <p:grpSp>
                  <p:nvGrpSpPr>
                    <p:cNvPr id="909" name=""/>
                    <p:cNvGrpSpPr/>
                    <p:nvPr/>
                  </p:nvGrpSpPr>
                  <p:grpSpPr>
                    <a:xfrm>
                      <a:off x="2819160" y="1371600"/>
                      <a:ext cx="1686240" cy="4978080"/>
                      <a:chOff x="2819160" y="1371600"/>
                      <a:chExt cx="1686240" cy="4978080"/>
                    </a:xfrm>
                  </p:grpSpPr>
                  <p:grpSp>
                    <p:nvGrpSpPr>
                      <p:cNvPr id="910" name=""/>
                      <p:cNvGrpSpPr/>
                      <p:nvPr/>
                    </p:nvGrpSpPr>
                    <p:grpSpPr>
                      <a:xfrm>
                        <a:off x="2819160" y="1371600"/>
                        <a:ext cx="385920" cy="4978080"/>
                        <a:chOff x="2819160" y="1371600"/>
                        <a:chExt cx="385920" cy="4978080"/>
                      </a:xfrm>
                    </p:grpSpPr>
                    <p:sp>
                      <p:nvSpPr>
                        <p:cNvPr id="911" name=""/>
                        <p:cNvSpPr/>
                        <p:nvPr/>
                      </p:nvSpPr>
                      <p:spPr>
                        <a:xfrm flipV="1">
                          <a:off x="32050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 flipH="1">
                          <a:off x="281916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 flipH="1">
                          <a:off x="281916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4" name=""/>
                      <p:cNvGrpSpPr/>
                      <p:nvPr/>
                    </p:nvGrpSpPr>
                    <p:grpSpPr>
                      <a:xfrm>
                        <a:off x="4119480" y="1371600"/>
                        <a:ext cx="385920" cy="4978080"/>
                        <a:chOff x="4119480" y="1371600"/>
                        <a:chExt cx="385920" cy="4978080"/>
                      </a:xfrm>
                    </p:grpSpPr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 flipV="1">
                          <a:off x="4119480" y="1371600"/>
                          <a:ext cx="0" cy="497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>
                          <a:off x="4119840" y="634968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>
                          <a:off x="4119840" y="1371600"/>
                          <a:ext cx="38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lg" type="stealth" w="lg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3162240" y="2347920"/>
                      <a:ext cx="2786040" cy="2981520"/>
                      <a:chOff x="3162240" y="2347920"/>
                      <a:chExt cx="2786040" cy="298152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4119480" y="2354400"/>
                        <a:ext cx="0" cy="2909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5033880" y="2525760"/>
                        <a:ext cx="0" cy="2738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4576680" y="2525760"/>
                        <a:ext cx="0" cy="9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3662280" y="2347920"/>
                        <a:ext cx="0" cy="109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 flipV="1">
                        <a:off x="34909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V="1">
                        <a:off x="38336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 flipV="1">
                        <a:off x="44053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 flipV="1">
                        <a:off x="47480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 flipV="1">
                        <a:off x="531972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 flipV="1">
                        <a:off x="5662440" y="4048200"/>
                        <a:ext cx="0" cy="1216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38336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>
                        <a:off x="4748040" y="4048200"/>
                        <a:ext cx="571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>
                        <a:off x="3205080" y="234792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>
                        <a:off x="5491080" y="2702160"/>
                        <a:ext cx="0" cy="736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5033880" y="27021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4119480" y="2525760"/>
                        <a:ext cx="91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5" name=""/>
                      <p:cNvSpPr/>
                      <p:nvPr/>
                    </p:nvSpPr>
                    <p:spPr>
                      <a:xfrm rot="16200000">
                        <a:off x="3006000" y="2637000"/>
                        <a:ext cx="83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6" name=""/>
                      <p:cNvSpPr/>
                      <p:nvPr/>
                    </p:nvSpPr>
                    <p:spPr>
                      <a:xfrm rot="16200000">
                        <a:off x="4062600" y="2557800"/>
                        <a:ext cx="942840" cy="825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.4.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7" name=""/>
                      <p:cNvSpPr/>
                      <p:nvPr/>
                    </p:nvSpPr>
                    <p:spPr>
                      <a:xfrm rot="16200000">
                        <a:off x="4940640" y="2849400"/>
                        <a:ext cx="648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32824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41968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5111280" y="3454560"/>
                        <a:ext cx="761400" cy="64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0%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ing los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41" name=""/>
                      <p:cNvGrpSpPr/>
                      <p:nvPr/>
                    </p:nvGrpSpPr>
                    <p:grpSpPr>
                      <a:xfrm>
                        <a:off x="3454560" y="4749480"/>
                        <a:ext cx="261360" cy="579960"/>
                        <a:chOff x="3454560" y="4749480"/>
                        <a:chExt cx="261360" cy="579960"/>
                      </a:xfrm>
                    </p:grpSpPr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V="1">
                          <a:off x="367164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V="1">
                          <a:off x="367164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rot="16200000">
                          <a:off x="329508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4362480" y="4325760"/>
                        <a:ext cx="261360" cy="1000800"/>
                        <a:chOff x="4362480" y="4325760"/>
                        <a:chExt cx="261360" cy="100080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V="1">
                          <a:off x="45813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V="1">
                          <a:off x="45813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 rot="16200000">
                          <a:off x="3992760" y="4695480"/>
                          <a:ext cx="100080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  50.4.2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9" name=""/>
                      <p:cNvGrpSpPr/>
                      <p:nvPr/>
                    </p:nvGrpSpPr>
                    <p:grpSpPr>
                      <a:xfrm>
                        <a:off x="5278320" y="4749480"/>
                        <a:ext cx="261360" cy="579960"/>
                        <a:chOff x="5278320" y="4749480"/>
                        <a:chExt cx="261360" cy="579960"/>
                      </a:xfrm>
                    </p:grpSpPr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V="1">
                          <a:off x="5495760" y="506268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 flipV="1">
                          <a:off x="5495760" y="4859640"/>
                          <a:ext cx="0" cy="101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rot="16200000">
                          <a:off x="5118840" y="4908600"/>
                          <a:ext cx="579960" cy="261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taple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953" name=""/>
              <p:cNvSpPr/>
              <p:nvPr/>
            </p:nvSpPr>
            <p:spPr>
              <a:xfrm>
                <a:off x="5948280" y="2702160"/>
                <a:ext cx="0" cy="25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74912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6818040" y="3063960"/>
              <a:ext cx="959040" cy="2259000"/>
              <a:chOff x="6818040" y="3063960"/>
              <a:chExt cx="959040" cy="2259000"/>
            </a:xfrm>
          </p:grpSpPr>
          <p:sp>
            <p:nvSpPr>
              <p:cNvPr id="956" name=""/>
              <p:cNvSpPr/>
              <p:nvPr/>
            </p:nvSpPr>
            <p:spPr>
              <a:xfrm>
                <a:off x="7319880" y="3063960"/>
                <a:ext cx="0" cy="36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71485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7777080" y="3063960"/>
                <a:ext cx="0" cy="21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62680" y="3063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74912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18040" y="30909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968520" y="344808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3" name=""/>
              <p:cNvGrpSpPr/>
              <p:nvPr/>
            </p:nvGrpSpPr>
            <p:grpSpPr>
              <a:xfrm>
                <a:off x="7107120" y="4743000"/>
                <a:ext cx="261360" cy="579960"/>
                <a:chOff x="7107120" y="4743000"/>
                <a:chExt cx="261360" cy="579960"/>
              </a:xfrm>
            </p:grpSpPr>
            <p:sp>
              <p:nvSpPr>
                <p:cNvPr id="964" name=""/>
                <p:cNvSpPr/>
                <p:nvPr/>
              </p:nvSpPr>
              <p:spPr>
                <a:xfrm flipV="1">
                  <a:off x="732456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V="1">
                  <a:off x="732456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16200000">
                  <a:off x="6947640" y="4902120"/>
                  <a:ext cx="5799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7" name=""/>
            <p:cNvGrpSpPr/>
            <p:nvPr/>
          </p:nvGrpSpPr>
          <p:grpSpPr>
            <a:xfrm>
              <a:off x="7777080" y="3431880"/>
              <a:ext cx="914400" cy="1886400"/>
              <a:chOff x="7777080" y="3431880"/>
              <a:chExt cx="914400" cy="1886400"/>
            </a:xfrm>
          </p:grpSpPr>
          <p:sp>
            <p:nvSpPr>
              <p:cNvPr id="968" name=""/>
              <p:cNvSpPr/>
              <p:nvPr/>
            </p:nvSpPr>
            <p:spPr>
              <a:xfrm>
                <a:off x="7777080" y="3432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40564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405640" y="404172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691480" y="3431880"/>
                <a:ext cx="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8062920" y="4041720"/>
                <a:ext cx="0" cy="12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89680" y="3448080"/>
                <a:ext cx="8924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8012160" y="4247280"/>
                <a:ext cx="261360" cy="1071000"/>
                <a:chOff x="8012160" y="4247280"/>
                <a:chExt cx="261360" cy="1071000"/>
              </a:xfrm>
            </p:grpSpPr>
            <p:sp>
              <p:nvSpPr>
                <p:cNvPr id="975" name=""/>
                <p:cNvSpPr/>
                <p:nvPr/>
              </p:nvSpPr>
              <p:spPr>
                <a:xfrm flipV="1">
                  <a:off x="8229240" y="505620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8229240" y="4853160"/>
                  <a:ext cx="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16200000">
                  <a:off x="7607160" y="4651920"/>
                  <a:ext cx="10710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100.4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8" name=""/>
            <p:cNvGrpSpPr/>
            <p:nvPr/>
          </p:nvGrpSpPr>
          <p:grpSpPr>
            <a:xfrm>
              <a:off x="5903640" y="2968560"/>
              <a:ext cx="959040" cy="2347560"/>
              <a:chOff x="5903640" y="2968560"/>
              <a:chExt cx="959040" cy="2347560"/>
            </a:xfrm>
          </p:grpSpPr>
          <p:sp>
            <p:nvSpPr>
              <p:cNvPr id="979" name=""/>
              <p:cNvSpPr/>
              <p:nvPr/>
            </p:nvSpPr>
            <p:spPr>
              <a:xfrm>
                <a:off x="6405480" y="2968560"/>
                <a:ext cx="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623412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6862680" y="296856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48280" y="29685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6576840" y="4044960"/>
                <a:ext cx="0" cy="12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03640" y="29973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054120" y="344484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6188040" y="4665960"/>
                <a:ext cx="261360" cy="650160"/>
                <a:chOff x="6188040" y="4665960"/>
                <a:chExt cx="261360" cy="650160"/>
              </a:xfrm>
            </p:grpSpPr>
            <p:sp>
              <p:nvSpPr>
                <p:cNvPr id="987" name=""/>
                <p:cNvSpPr/>
                <p:nvPr/>
              </p:nvSpPr>
              <p:spPr>
                <a:xfrm flipV="1">
                  <a:off x="6410160" y="504396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0160" y="4831920"/>
                  <a:ext cx="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16200000">
                  <a:off x="5993640" y="4860360"/>
                  <a:ext cx="6501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0" name=""/>
            <p:cNvGrpSpPr/>
            <p:nvPr/>
          </p:nvGrpSpPr>
          <p:grpSpPr>
            <a:xfrm>
              <a:off x="2279520" y="2058840"/>
              <a:ext cx="925560" cy="3258360"/>
              <a:chOff x="2279520" y="2058840"/>
              <a:chExt cx="925560" cy="3258360"/>
            </a:xfrm>
          </p:grpSpPr>
          <p:sp>
            <p:nvSpPr>
              <p:cNvPr id="991" name=""/>
              <p:cNvSpPr/>
              <p:nvPr/>
            </p:nvSpPr>
            <p:spPr>
              <a:xfrm>
                <a:off x="2290680" y="205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05080" y="2065320"/>
                <a:ext cx="0" cy="31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47880" y="2065320"/>
                <a:ext cx="0" cy="13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2576520" y="4041720"/>
                <a:ext cx="0" cy="12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2919240" y="4056120"/>
                <a:ext cx="0" cy="12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2532240" y="4667040"/>
                <a:ext cx="261360" cy="650160"/>
                <a:chOff x="2532240" y="4667040"/>
                <a:chExt cx="261360" cy="650160"/>
              </a:xfrm>
            </p:grpSpPr>
            <p:sp>
              <p:nvSpPr>
                <p:cNvPr id="997" name=""/>
                <p:cNvSpPr/>
                <p:nvPr/>
              </p:nvSpPr>
              <p:spPr>
                <a:xfrm flipV="1">
                  <a:off x="2752560" y="506304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2752560" y="486576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6200000">
                  <a:off x="2337840" y="4861440"/>
                  <a:ext cx="6501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taple 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2368080" y="3443400"/>
                <a:ext cx="7614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ng l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2123280" y="2464560"/>
                <a:ext cx="83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65768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62440" y="40417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24280" y="4041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pencer Graves</dc:creator>
  <dc:description/>
  <dc:language>en-US</dc:language>
  <cp:lastModifiedBy>spencerg</cp:lastModifiedBy>
  <cp:lastPrinted>1999-08-04T01:07:43Z</cp:lastPrinted>
  <dcterms:modified xsi:type="dcterms:W3CDTF">2002-11-02T18:47:18Z</dcterms:modified>
  <cp:revision>1091</cp:revision>
  <dc:subject/>
  <dc:title>No Slide Title</dc:title>
</cp:coreProperties>
</file>